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B69-C5F9-4CCE-8F6A-1D1B9A5D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DB3-C35E-4824-8604-E281A0BA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0E1-3584-41D3-AC87-2F95309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A6B-CFCC-483C-BB4E-CBE36241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51E-5B6B-4079-A191-AF65CDEC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6FF-0DA4-42F0-99EB-141F905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CA3-46C2-4A9D-A262-72A2DC9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CE6-CA4A-435A-8FE4-DAB9419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CCB-4EEA-40BC-BF58-35CD7666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99A-AE19-4C4F-AEC8-7D16867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E2F-7D22-45F3-BE03-7599E56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A29-C99F-455D-ACC0-60B54DD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27D-D312-41F6-B48B-F6CF5B6932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477D-44D0-49B3-80F9-05E21BFE3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83600" y="3333600"/>
            <a:ext cx="1760400" cy="352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Using the TPACK Framework students will identify: content, pedagogy, and technology in a real school activity. Students will complete the TPACK Framework at the beginning of class. Revisit the process at the end of class and revisit/revise their TPACK Framewo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719280" y="4827600"/>
            <a:ext cx="805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pack-contexts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knowledge – Read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gy Knowledge – scaffoldi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Knowledge – Reading A-Z /Readers Thea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ACK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26Z</dcterms:created>
  <dc:creator>sbswan02</dc:creator>
  <dc:description/>
  <dc:language>en-US</dc:language>
  <cp:lastModifiedBy>201g_07</cp:lastModifiedBy>
  <dcterms:modified xsi:type="dcterms:W3CDTF">2010-08-30T22:36:46Z</dcterms:modified>
  <cp:revision>6</cp:revision>
  <dc:subject/>
  <dc:title>TPACK Framework Activity </dc:title>
</cp:coreProperties>
</file>